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7EC-585E-44BA-8768-C5E662FA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243-0C1E-4B91-A4FD-79D8B77D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8A2-0A57-4F1B-A2BD-B99CA460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91D-7655-4918-84F3-8C8BA429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0168-C090-4951-AEDC-9EA8FFBA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58A6-1553-4535-8818-39370847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5D62-F4BC-4D17-B1B9-6DDF9C61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4E58-B9FF-4CDB-85D6-249F3A1D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77A2-550A-4198-80EE-9B0F6C68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D2F8-1F9F-4292-92E1-6328DECF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8DFF-DCB4-4DE6-8D33-5E5F530C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E22-D2FA-4A8F-BA36-7B27F4C0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CD61-4106-492C-BA28-DAEF7472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42EB-AD0F-442A-B24D-6326325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CBFE-7AB9-4F69-BA11-5BA3A725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AE8B-DCDB-452F-B4B7-91F4F419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4520-5EF3-47E5-B6CD-77CAB989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2A8-A90B-4D7E-92A1-723C4AAD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2E1-0738-4ACC-BED0-026ADE51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CDF-D31C-4BE7-9604-D2F04AD7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F47-8ACF-478F-A91D-CBAE173F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A41-AE46-4A21-9F43-E370A812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BC8-E392-4DB7-9785-8E60B556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EAD-042F-4170-AE81-9DCE7A3C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995D-1D1F-40B2-9742-5E86400A4CE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1864-DF6B-4DC6-A27C-0A983D73852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7d47d"/>
                </a:solidFill>
                <a:latin typeface="Arial"/>
              </a:rPr>
              <a:t>Using the Grade 9 Applied Mathematics Assessment II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Arial"/>
              </a:rPr>
              <a:t>Looking at the Item Information Report: Student Roster Fil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Grade 9 Applied Mathematics: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PCDSB 2008-2009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amination of all items with a score of less than 60% has suggested that areas of challenge in Dufferin-Peel in 2008-2009 were likely to be related to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thematical processes, particularly problem solving (multi-step), reasoning and proving, connecting, and representing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ovel ways of asking students to demonstrate their mathematical knowledg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7d47d"/>
                </a:solidFill>
                <a:latin typeface="Arial"/>
              </a:rPr>
              <a:t>Contact Inform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For questions regarding the EQAO files or this presentation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Kathy Russell-Kwa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Researcher, Program Department, Ext. 2455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kathy.russell-kwan@dpcdsb.or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Grade 9 Mathematics EQAO Fil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QAO provides a variety of files regarding the Grade 9 assessments of mathematics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Detailed, internal board and school reports of aggregate achievement for diverse learner group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af7d"/>
                </a:solidFill>
                <a:latin typeface="Arial"/>
              </a:rPr>
              <a:t>All students and Participating Students public reports for the board, schools, and provinc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ndividual Student Data files containing demographic and outcomes data for student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tem Information Report: Student Roster files containing item-by-item data for individual students, the school, board, and provinc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rofile of strengths and areas for improvement summari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Grade 9 Mathematics EQAO Fil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QAO provides a variety of files regarding the Grade 9 assessments of mathematics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tudent questionnaire results for the school and boar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Board-level teacher questionnaire result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chool and board summary of results over tim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ramework document explaining the assessment, the assessment process, and curriculum connections and blueprint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af7d"/>
                </a:solidFill>
                <a:latin typeface="Arial"/>
              </a:rPr>
              <a:t>Released assessment items and scoring guid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Guides to interpreting result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af7d"/>
                </a:solidFill>
                <a:latin typeface="Arial"/>
              </a:rPr>
              <a:t>Provincial highlights and summari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af7d"/>
                </a:solidFill>
                <a:latin typeface="Arial"/>
              </a:rPr>
              <a:t>Other resources for educators and parent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7d47d"/>
                </a:solidFill>
                <a:latin typeface="Arial"/>
              </a:rPr>
              <a:t>Individual Student Data File (ISD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There are two student-level files available to schools: the ISD and the II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The ISD is accessible via your school’s secure  EQAO web site.</a:t>
            </a:r>
            <a:br>
              <a:rPr sz="2400"/>
            </a:b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This file contains outcome, demographic and accommodations information for each individual student, including those not participating in the assessment(s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This file can assist with student-level and cohort inquiry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7d47d"/>
                </a:solidFill>
                <a:latin typeface="Arial"/>
              </a:rPr>
              <a:t>Item Information Report: Student Roster (IIR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The IIR files are accessible via your school’s secure  EQAO web site.</a:t>
            </a:r>
            <a:br>
              <a:rPr sz="2000"/>
            </a:b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The IIR contains data regarding the responses provided by each student for each released item on the assessment, as well as indication of each student’s overall achievement leve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The summary band below the student data contains aggregate performance information for each question for the school, board, province, and students across the province who achieved Level 3 or higher overall on the assessment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This file can assist with student-level and cohort inquiry, as well as comparisons between school, board and provinc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7d47d"/>
                </a:solidFill>
                <a:latin typeface="Arial"/>
              </a:rPr>
              <a:t>Using the IIR Fil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23880"/>
            <a:ext cx="7386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1311"/>
                </a:solidFill>
                <a:latin typeface="Arial"/>
              </a:rPr>
              <a:t>The IIR can be used to assist actual members of the cohort. There may be some application of overall trends to future assessment cohorts.</a:t>
            </a:r>
            <a:br>
              <a:rPr sz="2200"/>
            </a:br>
            <a:r>
              <a:rPr b="0" lang="en-CA" sz="2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1311"/>
                </a:solidFill>
                <a:latin typeface="Arial"/>
              </a:rPr>
              <a:t>In the summary band, the number for each multiple choice item (MC) represents the percentage of students who got the item correct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1311"/>
                </a:solidFill>
                <a:latin typeface="Arial"/>
              </a:rPr>
              <a:t>In the summary band, the number for each open response item (OR) represents the average score point achieved by all students in the respective population, expressed as a percentage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7d47d"/>
                </a:solidFill>
                <a:latin typeface="Arial"/>
              </a:rPr>
              <a:t>Cautions with the II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371240"/>
            <a:ext cx="7386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The IIR findings represent a starting point for looking at student data. Examination of other student data can supplement IIR data and provide greater understanding about student learning need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EQAO assessment questions are designed for a variety of student ability levels.</a:t>
            </a:r>
            <a:br>
              <a:rPr sz="2000"/>
            </a:b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There are relatively few questions per strand and per curriculum expectation. Conclusions about student learning needs cannot be made on the basis of only a few item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1311"/>
                </a:solidFill>
                <a:latin typeface="Arial"/>
              </a:rPr>
              <a:t>Clustering of questions is required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Grade 9 Applied Mathematics: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PCDSB Winter 2008-2009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following multiple choice items were most challenging for the board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8 (26%), MGV.02, P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9 (28%), MGV.02, AP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 (30%), NAV.01, P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3 (36%), NAV.02, AP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5 (43%), NAV.02, KU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4 (48%), NAV.01, KU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following open response items were most challenging for the board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21 (mean score point of 35%, or approx. 14/40), MGV.03, AP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5 (mean score point of 35%, or approx. 15/40), LRV.03, AP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Grade 9 Applied Mathematics: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PCDSB Spring 2008-2009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following multiple choice items were most challenging for the board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8 (24%), MGV.02, P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1(28%), LRV.03, AP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 (40%), NAV.02, AP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4 (47%), NAV.02, KU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 (48%), NAV.01, P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following open response items were most challenging for the board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5 (mean score point of 48%, or approx. 14/40), NAV.01, P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6:19:27Z</dcterms:created>
  <dc:creator>test</dc:creator>
  <dc:description/>
  <dc:language>en-US</dc:language>
  <cp:lastModifiedBy>CorpAdmin</cp:lastModifiedBy>
  <dcterms:modified xsi:type="dcterms:W3CDTF">2009-11-10T16:42:52Z</dcterms:modified>
  <cp:revision>8</cp:revision>
  <dc:subject/>
  <dc:title>A Survey of EQAO Data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1075769</vt:r8>
  </property>
  <property fmtid="{D5CDD505-2E9C-101B-9397-08002B2CF9AE}" pid="3" name="_AuthorEmail">
    <vt:lpwstr>Kathy.Russell-Kwan@dpcdsb.org</vt:lpwstr>
  </property>
  <property fmtid="{D5CDD505-2E9C-101B-9397-08002B2CF9AE}" pid="4" name="_AuthorEmailDisplayName">
    <vt:lpwstr>Russell-Kwan, Kathy</vt:lpwstr>
  </property>
  <property fmtid="{D5CDD505-2E9C-101B-9397-08002B2CF9AE}" pid="5" name="_EmailSubject">
    <vt:lpwstr>Grade 9 Applied Math IIR Agg.ppt</vt:lpwstr>
  </property>
</Properties>
</file>